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ct" ContentType="image/x-pict"/>
  <Override PartName="/ppt/media/image29.jpeg" ContentType="image/jpeg"/>
  <Override PartName="/ppt/media/image26.jpeg" ContentType="image/jpeg"/>
  <Override PartName="/ppt/media/image25.pct" ContentType="image/x-pict"/>
  <Override PartName="/ppt/media/image24.pct" ContentType="image/x-pict"/>
  <Override PartName="/ppt/media/image2.jpeg" ContentType="image/jpeg"/>
  <Override PartName="/ppt/media/image30.pct" ContentType="image/x-pict"/>
  <Override PartName="/ppt/media/image23.jpeg" ContentType="image/jpeg"/>
  <Override PartName="/ppt/media/image7.pct" ContentType="image/x-pict"/>
  <Override PartName="/ppt/media/image32.pct" ContentType="image/x-pict"/>
  <Override PartName="/ppt/media/image10.jpeg" ContentType="image/jpeg"/>
  <Override PartName="/ppt/media/image5.pct" ContentType="image/x-pict"/>
  <Override PartName="/ppt/media/image8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12.jpeg" ContentType="image/jpeg"/>
  <Override PartName="/ppt/media/image33.pct" ContentType="image/x-pict"/>
  <Override PartName="/ppt/media/image34.pct" ContentType="image/x-pict"/>
  <Override PartName="/ppt/media/image9.pct" ContentType="image/x-pict"/>
  <Override PartName="/ppt/media/image3.jpeg" ContentType="image/jpeg"/>
  <Override PartName="/ppt/media/image35.jpeg" ContentType="image/jpeg"/>
  <Override PartName="/ppt/media/image1.jpeg" ContentType="image/jpeg"/>
  <Override PartName="/ppt/media/image18.pct" ContentType="image/x-pict"/>
  <Override PartName="/ppt/media/image14.jpeg" ContentType="image/jpeg"/>
  <Override PartName="/ppt/media/image19.pct" ContentType="image/x-pict"/>
  <Override PartName="/ppt/media/image21.pct" ContentType="image/x-pict"/>
  <Override PartName="/ppt/media/image11.jpeg" ContentType="image/jpeg"/>
  <Override PartName="/ppt/media/image6.jpeg" ContentType="image/jpeg"/>
  <Override PartName="/ppt/media/image15.pct" ContentType="image/x-pict"/>
  <Override PartName="/ppt/media/image16.jpeg" ContentType="image/jpeg"/>
  <Override PartName="/ppt/media/image17.png" ContentType="image/png"/>
  <Override PartName="/ppt/media/image20.jpeg" ContentType="image/jpeg"/>
  <Override PartName="/ppt/media/image22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C7E4-2751-46E9-9460-0E7D4ADB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4EAE-C1D3-4ACB-8F0E-BE3CB3B1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487-6AD8-4E1C-AFDB-4DB71B88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3E18-6CC8-43EF-A538-1272D684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E83-669E-443E-9C52-F0FCDD24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112-5542-4782-A496-8408C1F7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806-6B06-4CB2-BBAF-7A5C5891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6AD4-8ADF-4FF3-9F8E-BE8194E0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139-0033-4408-B8C7-146E9274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6D5-F0BC-4BAB-9D62-5830E43A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B07-FC96-4810-B0C8-E1A39817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585-A094-4FFA-919D-31335CF6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BC5B-1B6B-452E-B0F6-FE0FB5DE6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ct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781680" cy="2746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36640" y="274176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507960" y="895320"/>
            <a:ext cx="101599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446120"/>
            <a:ext cx="89154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72428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-380880"/>
            <a:ext cx="7772400" cy="6029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3520" y="4889520"/>
            <a:ext cx="81676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6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077320" cy="364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438280" y="4495680"/>
            <a:ext cx="382284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8120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20680"/>
            <a:ext cx="914400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685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38120" y="1498680"/>
            <a:ext cx="64659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95360" y="152280"/>
            <a:ext cx="834192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EROSPACE 4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a3e"/>
                </a:solidFill>
                <a:latin typeface="Comic Sans MS"/>
              </a:rPr>
              <a:t>AEROSPACE    PROPUL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cture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9/30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a43"/>
                </a:solidFill>
                <a:latin typeface="Comic Sans MS"/>
              </a:rPr>
              <a:t>TURBO RAMJET ENG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J-58  PRATT&amp;WHITNEY   for  SR-71 propul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a4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a3e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585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36640" y="274176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6480" y="-77760"/>
            <a:ext cx="1839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94440" y="228456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9000" y="37339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61722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r. Cengiz Cam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05520" y="4267080"/>
            <a:ext cx="3176640" cy="168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14400" y="4267080"/>
            <a:ext cx="3149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23920"/>
            <a:ext cx="91440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52600" y="1670040"/>
            <a:ext cx="62373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1166760"/>
            <a:ext cx="84582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38600" y="1219320"/>
            <a:ext cx="720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R-71   INLET  NOSE  C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0199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87320" y="1371600"/>
            <a:ext cx="805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Unlike inlets operating in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Mach 2 and under regim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a43"/>
                </a:solidFill>
                <a:latin typeface="Trebuchet MS"/>
              </a:rPr>
              <a:t>the SR-71 inlet must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a43"/>
                </a:solidFill>
                <a:latin typeface="Trebuchet MS"/>
              </a:rPr>
              <a:t>variable inlet geometry (see below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a43"/>
                </a:solidFill>
                <a:latin typeface="Trebuchet MS"/>
              </a:rPr>
              <a:t>in order to manage flow over the fu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a43"/>
                </a:solidFill>
                <a:latin typeface="Trebuchet MS"/>
              </a:rPr>
              <a:t>operating range of the aircraf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5044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1046160"/>
            <a:ext cx="861084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532800" y="304920"/>
            <a:ext cx="8625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43"/>
                </a:solidFill>
                <a:latin typeface="Trebuchet MS"/>
              </a:rPr>
              <a:t>There  are  four 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43"/>
                </a:solidFill>
                <a:latin typeface="Trebuchet MS"/>
              </a:rPr>
              <a:t>The  engine  inlet  must  me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t must match the air flow capt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y the inlet to the air flow requir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engine under all conditions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bsonic to Mach 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ince all turbojet engines requi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stant volume of air, they requ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bsonic flow at the inlet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mpressor face, it must reduc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velocity of flow to about Mach .3 to 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s it enters the engine; this is no small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152280" y="1600200"/>
            <a:ext cx="9276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hile it is reducing the velocity of the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t the compressor, it must simultane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tain the greatest possible air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 order to boost flow to the compr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t must minimize the momentary effect upon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low from external perturbations such as gu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762120" y="-576360"/>
            <a:ext cx="9906120" cy="888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610480" cy="4708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4960" y="152280"/>
            <a:ext cx="878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SR-71 inlet is classified as an axisymmetric mixed compression inl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s type was chosen because it offered higher pressure recovery at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mpressor face, longer range, and the desired high-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ruise perform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3120" y="685800"/>
            <a:ext cx="9228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ixed compression inlets can provide high pressure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bove Mach 2.2 if the shock can be maintained in such a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at it impinges just downstream of the inlet throa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ven when the airflow is distu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When the shock is disturbed in any way so that it moves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that point, the inlet is said to become unstarted. When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happens, the shock pops out and stabilizes forward of the in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lip and the pressure recovery, airflow to the engin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consequently, thrust all drop instantaneously while drag spi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upward. The nozzle must be designed to recover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unstart condition rapidly to prevent engine damage a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on the SR-71,to prevent the airplane from yawing too m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43"/>
                </a:solidFill>
                <a:latin typeface="Trebuchet MS"/>
              </a:rPr>
              <a:t>toward the unstarted eng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5040" y="760320"/>
            <a:ext cx="8016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158040" y="0"/>
            <a:ext cx="93171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a43"/>
                </a:solidFill>
                <a:latin typeface="Trebuchet MS"/>
              </a:rPr>
              <a:t>Bypass air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ne of the first experiences Lockheed engineers 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ith the requirement for bypass ducts came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early development of the P-80 Shooting Star. Pi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ported loud noises emanating from the intake 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o the engine under certain conditions, a phenomen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y called duct rum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cause was air piling up within the duct a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inner wall, creating turbulent eddies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duced the rum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03400" y="3962520"/>
            <a:ext cx="950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solution was to provide an overboard exit for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iled-up air through a system of ducts along the in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ner wall. The air entered the duct and was led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utside near the top and bottom of the external ski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in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57150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52960" y="762120"/>
            <a:ext cx="8078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43"/>
                </a:solidFill>
                <a:latin typeface="Trebuchet MS"/>
              </a:rPr>
              <a:t>Supersonic wind tunnels experienced ch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43"/>
                </a:solidFill>
                <a:latin typeface="Trebuchet MS"/>
              </a:rPr>
              <a:t>when air flow was blocked by shock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43"/>
                </a:solidFill>
                <a:latin typeface="Trebuchet MS"/>
              </a:rPr>
              <a:t>that reflected back into the tunn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problem persisted until slots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corporated in the tunnel wall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arry away the air from the shock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 they would not be trapped inside the tun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SR-71s complex series of bypass do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nd ducts are shown in many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ollowing diagram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53452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8600" y="304920"/>
            <a:ext cx="83844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rward bypass doors (see above) are open when the gear i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but close when the gear retracts. They are scheduled to open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t Mach 1.4 to dump excess flow captured by the inl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Beginning at Mach 1.6, the aerospike begins to retract to the rea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ltering the location of the point at which the shock wave is 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nd moving in proportion to the changing angle of the sh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inlet starts at about Mach 1.7 when the shock finds its way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 point downstream of the thro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bove Mach 2.2, bypass doors come into play to help mainta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hock at its desired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When an unstart occurs, both spikes move forward abruptl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forward bypass doors are opened to recycle and obtain a resta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spikes are retracted again until the shock returns to the des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ocation at the inlet thro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1189080"/>
            <a:ext cx="85345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50040" y="1371600"/>
            <a:ext cx="8971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n the SR-71, boundary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(layer closest to the skin) piles up around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erospike center body and is conducted via a por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leed inlet (see above) through the center body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aerospike to four hollow pylons that condu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air out of the aerospike and over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orward bypass doors match the inlet to th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eeds, bypassing air over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5120" y="1536840"/>
            <a:ext cx="875196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6200" y="1359000"/>
            <a:ext cx="7850160" cy="414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352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37080" y="762120"/>
            <a:ext cx="9413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ir from the shock trap tubes (see above) bl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iled-up air into passages that lead to the engin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oling before it exits through the ejector at the 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nd of the eng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t the rearmost point, the spike has translated 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bout 26 inches. At the same time, the inlets ca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rea has increased by 112%, and the throat di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t the point of minimum cross-section downstream 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een reduced by 54% to maintain the shock i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per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6880" y="2057400"/>
            <a:ext cx="8617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t Mach 3, the inlet itself produces 54% of 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rust through pressure recovery, the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tributing only 17% and the ejector system 29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compression ratio at cruise is 40 to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36640" y="1442880"/>
            <a:ext cx="566892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915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53452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90720" y="895320"/>
            <a:ext cx="70102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888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78168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55308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65280" y="1035000"/>
            <a:ext cx="7812000" cy="478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8620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2057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362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3657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5029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2480" y="1492200"/>
            <a:ext cx="797724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8282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5280" y="392040"/>
            <a:ext cx="88916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1T19:04:18Z</dcterms:created>
  <dc:creator>Cengiz Camci</dc:creator>
  <dc:description/>
  <dc:language>en-US</dc:language>
  <cp:lastModifiedBy>CENGIZ CAMCI</cp:lastModifiedBy>
  <dcterms:modified xsi:type="dcterms:W3CDTF">2002-11-08T16:09:36Z</dcterms:modified>
  <cp:revision>51</cp:revision>
  <dc:subject/>
  <dc:title>PowerPoint Presentation</dc:title>
</cp:coreProperties>
</file>